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7.jpeg" ContentType="image/jpe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3B24-D5BB-4E1C-8F65-BB3D6056579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7EFC-4FEA-4DCF-94D7-65FC2615D51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B9F5-3231-4F6D-B25B-DD5F6E64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4A9E-1FD6-4224-965E-7D27B80A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E5B-F4D3-4D1C-9DC1-D5FC759D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0C1-FFD9-4F80-9CDD-810B103B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90C7-5978-4D75-9420-44238CE1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C6A4-ED8F-4F5B-90C5-6342EABA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455C-D3D5-4354-8111-0F83A297A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4F53-7178-403D-ADA1-056EBB6B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F487-9EC1-4248-AA9C-5732C654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14C4A-D551-499D-9A61-C98D7B15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925E-A813-4DEF-84CC-A7FD5A38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A40-72CB-4AEE-A4DC-550DA66DA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9540-65BC-4701-BF88-3C5F35FB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8EEE-BD8B-48FC-A15C-2BAC5CAF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C40D-A709-4BDC-BA41-E76F7DFA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6836-110A-417E-AE4F-9899BCF82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783C-D471-4D57-AE6F-BAC4D6D5F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2E502-8A76-4B99-BE86-6067207F8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DE20E-3D3E-404A-8802-E705C39A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C943-FC5E-4E6B-9D67-5C8E1799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FDF70-E26E-41F0-9A3A-88599A62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976EA-2210-41C7-8DDA-2C691C3E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BBB-1C6F-46DF-99CF-471D9B1D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88EE-EB2E-4900-9ED5-05797E1A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11BCB-06DC-4992-B97E-ED318B3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020D4-5C0A-42CC-A123-B5F4470B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FA89D-2CC0-479B-A256-1A875FC5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742C1-946C-4BD7-BD13-2BD6F072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BD5E7-D4C9-4DEF-B7C7-A1E0DC9A9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9CC28-15E2-4770-A09C-696EA2288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BA36C-F2CD-4350-A540-796029FF4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BCAEF-342E-4A74-9C30-4326F4F3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9115E-D099-444C-B001-343E0699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4F43-CBB0-462D-9DEF-1C512FA2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0EC18-9130-4309-A323-38D8285B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1DDCB-5F30-4DDF-A0DF-BF7B8B90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58124-E434-4174-8363-0B75DA68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B3DA9-E531-4304-8186-E9196E22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71376-F77E-4200-AAC5-AF934625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D9934-025E-4FC6-9E95-40DC96D3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5F760-400C-4711-ADC6-E0D1BFEC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46651-70B6-4D17-BA3D-E09C5F1A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F0650-4357-435B-B78C-CDF1B313C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E57C-8A12-4389-B9B0-B5288876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9B2-62EE-4F55-9F6F-6B4EDE4D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4BD-8DB8-416A-BE10-22BC6292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469-F48A-41F6-8209-C744538F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F6C7-3AB0-4609-B4CC-62203F8B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3CAF-82E3-4BBA-9EA2-800E6172583D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7F49-873B-482F-AA07-7B52623B8542}" type="slidenum"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FD65-40F3-4D16-8632-E1929DE2071D}" type="slidenum">
              <a:rPr b="0" lang="es-E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BCA3-F76C-422C-9600-66D92618FD4B}" type="slidenum">
              <a:rPr b="0" lang="es-E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836640"/>
            <a:ext cx="785988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Calibri"/>
              </a:rPr>
              <a:t>El Expresionismo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920" y="1557000"/>
            <a:ext cx="2720880" cy="469116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Ismael Sánchez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Carlos Nocet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María Gallard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José J.  Ruiz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Expresionismo"/>
          <p:cNvPicPr/>
          <p:nvPr/>
        </p:nvPicPr>
        <p:blipFill>
          <a:blip r:embed="rId1"/>
          <a:stretch/>
        </p:blipFill>
        <p:spPr>
          <a:xfrm>
            <a:off x="4211640" y="1898640"/>
            <a:ext cx="35290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Vincent van Gogh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3" name="6 Marcador de contenido" descr="van gogh.jpg"/>
          <p:cNvPicPr/>
          <p:nvPr/>
        </p:nvPicPr>
        <p:blipFill>
          <a:blip r:embed="rId1"/>
          <a:stretch/>
        </p:blipFill>
        <p:spPr>
          <a:xfrm>
            <a:off x="611280" y="1758960"/>
            <a:ext cx="3600360" cy="4738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Capta la incidencia de la luz sobre el obje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Utiliza colores violen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Pinceladas cort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Domina la sensación de abocetamien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Líneas gruesas y sin difumin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Sus pinturas expresan su estado de animo describiéndolo como un ser atormen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Mujer Arrodillada, Wilhelm Lehmbruc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6" name="3 Marcador de contenido" descr="Mujer_arrodillada_Wilhelm_Lehmbruck[1].jpg"/>
          <p:cNvPicPr/>
          <p:nvPr/>
        </p:nvPicPr>
        <p:blipFill>
          <a:blip r:embed="rId1"/>
          <a:stretch/>
        </p:blipFill>
        <p:spPr>
          <a:xfrm>
            <a:off x="3238560" y="1986120"/>
            <a:ext cx="2666880" cy="42861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4617b"/>
                </a:solidFill>
                <a:latin typeface="Calibri"/>
              </a:rPr>
              <a:t>Características de la escultura “Mujer Arrodillada</a:t>
            </a:r>
            <a:r>
              <a:rPr b="0" lang="es-ES" sz="2500" spc="-1" strike="noStrike">
                <a:solidFill>
                  <a:srgbClr val="04617b"/>
                </a:solidFill>
                <a:latin typeface="Calibri"/>
              </a:rPr>
              <a:t>”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952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nsación de esbeltez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esenta un rostro melancólico y nostálg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arálisis de la acción represent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abricada en bro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uerza tectóni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ratamiento del ropaje que subrayan el ritmo lineal; adaptando las arrugas de la ropa al mov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99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Wilhelm Lehmbruc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0" name="13 Marcador de contenido" descr="wilhelm lehmbruck.bmp"/>
          <p:cNvPicPr/>
          <p:nvPr/>
        </p:nvPicPr>
        <p:blipFill>
          <a:blip r:embed="rId1"/>
          <a:stretch/>
        </p:blipFill>
        <p:spPr>
          <a:xfrm>
            <a:off x="826920" y="1628640"/>
            <a:ext cx="3602160" cy="4627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642920" y="1628640"/>
            <a:ext cx="40388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inspira en el clasicism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basa en el naturalismo (cuerpo humano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resa formas cerradas y rotun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o de los más grandes artistas del S. XX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Algunas de sus obras se remontaban al Gót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4 Título" descr=""/>
          <p:cNvPicPr/>
          <p:nvPr/>
        </p:nvPicPr>
        <p:blipFill>
          <a:blip r:embed="rId1"/>
          <a:stretch/>
        </p:blipFill>
        <p:spPr>
          <a:xfrm>
            <a:off x="85680" y="469800"/>
            <a:ext cx="8693280" cy="1157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Taut_Glass_Pavilion_exterior_1914"/>
          <p:cNvPicPr/>
          <p:nvPr/>
        </p:nvPicPr>
        <p:blipFill>
          <a:blip r:embed="rId2"/>
          <a:stretch/>
        </p:blipFill>
        <p:spPr>
          <a:xfrm>
            <a:off x="1835280" y="1611360"/>
            <a:ext cx="5329080" cy="4875120"/>
          </a:xfrm>
          <a:prstGeom prst="rect">
            <a:avLst/>
          </a:prstGeom>
          <a:ln w="0">
            <a:noFill/>
          </a:ln>
        </p:spPr>
      </p:pic>
    </p:spTree>
  </p:cSld>
  <p:transition spd="slow"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4617b"/>
                </a:solidFill>
                <a:latin typeface="Calibri"/>
              </a:rPr>
              <a:t>Características del Pabellón de Crist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836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iene la base redon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staba coronado por una doble cúpula de cristal apunta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struido con vidr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enia diversos colores (muy vivo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bina la tradición antigu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Bruno Tau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5 Marcador de contenido" descr="bruno taut.jpg"/>
          <p:cNvPicPr/>
          <p:nvPr/>
        </p:nvPicPr>
        <p:blipFill>
          <a:blip r:embed="rId1"/>
          <a:stretch/>
        </p:blipFill>
        <p:spPr>
          <a:xfrm>
            <a:off x="755640" y="1506600"/>
            <a:ext cx="3600360" cy="5040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Pabellón de Cristal fue su obra más representativ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íder del movimiento expresionis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e el vidrio y los color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implificación y estilización de la iconografía clásica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5 Título" descr=""/>
          <p:cNvPicPr/>
          <p:nvPr/>
        </p:nvPicPr>
        <p:blipFill>
          <a:blip r:embed="rId1"/>
          <a:stretch/>
        </p:blipFill>
        <p:spPr>
          <a:xfrm>
            <a:off x="-755640" y="969840"/>
            <a:ext cx="10528200" cy="3248280"/>
          </a:xfrm>
          <a:prstGeom prst="rect">
            <a:avLst/>
          </a:prstGeom>
          <a:ln w="0">
            <a:noFill/>
          </a:ln>
        </p:spPr>
      </p:pic>
      <p:sp>
        <p:nvSpPr>
          <p:cNvPr id="240" name="6 Estrella de 5 puntas"/>
          <p:cNvSpPr/>
          <p:nvPr/>
        </p:nvSpPr>
        <p:spPr>
          <a:xfrm>
            <a:off x="7451640" y="55166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7 Estrella de 5 puntas"/>
          <p:cNvSpPr/>
          <p:nvPr/>
        </p:nvSpPr>
        <p:spPr>
          <a:xfrm>
            <a:off x="6588000" y="50846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04617b"/>
                </a:solidFill>
                <a:latin typeface="Calibri"/>
              </a:rPr>
              <a:t>El movimiento Expresionist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urge en Alemania (principios del S XX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fluye en muchos camp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trario al impresionism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temporáneo a cambios político y soci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upuso un nuevo concepto del ar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esaparece tras la Segunda Guerra Mund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Influencia de la Sociedad en el Arte Expresionist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9640" y="2565000"/>
            <a:ext cx="822960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ociedad hipócrita, lo que provoco un arte interior, brutal y angusti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Modo de interpretar las experiencias de una emergente sociedad industr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spuesta rebelde al desarrollo de una sociedad burgues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ía para la critica de la sociedad en todos sus aspe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Características del Expresionism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4000" y="1844280"/>
            <a:ext cx="75596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istorsiona las form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lores fuertes y pur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mbinaciones al 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resiv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ostros desfigurados y tris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Representación de paisaj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Búsqueda implícita de la novedad, la originalidad y el visionism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so de nuevos materi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Expresionismo. El Grito, obra de Edvard Munch"/>
          <p:cNvPicPr/>
          <p:nvPr/>
        </p:nvPicPr>
        <p:blipFill>
          <a:blip r:embed="rId1"/>
          <a:stretch/>
        </p:blipFill>
        <p:spPr>
          <a:xfrm>
            <a:off x="2124000" y="1484280"/>
            <a:ext cx="4969080" cy="5040360"/>
          </a:xfrm>
          <a:prstGeom prst="rect">
            <a:avLst/>
          </a:prstGeom>
          <a:ln w="0">
            <a:noFill/>
          </a:ln>
        </p:spPr>
      </p:pic>
      <p:pic>
        <p:nvPicPr>
          <p:cNvPr id="212" name="4 Título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321760" cy="1165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Características del cuadro “El grito”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686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istorsión de la imag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lores intensos que contrastan con otros más apag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ineas onduladas y rectas (Busqueda del contrast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xpresión del miedo personal del autor (ante una sociedad cada vez más compleja y difus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res lineas verticales dividen la ob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a diagonal cruza el cuadro desde el extremo izquier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inea horizontal que divide el cuad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es-ES" sz="4500" spc="-1" strike="noStrike">
                <a:solidFill>
                  <a:srgbClr val="04617b"/>
                </a:solidFill>
                <a:latin typeface="Calibri"/>
              </a:rPr>
              <a:t>Edward Münch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6" name="5 Marcador de contenido" descr="Edvard_Munch_1921.jpg"/>
          <p:cNvPicPr/>
          <p:nvPr/>
        </p:nvPicPr>
        <p:blipFill>
          <a:blip r:embed="rId1"/>
          <a:stretch/>
        </p:blipFill>
        <p:spPr>
          <a:xfrm>
            <a:off x="809640" y="1920960"/>
            <a:ext cx="3333600" cy="4433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4284720" y="2060280"/>
            <a:ext cx="46800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so expresivo y creativo de la línea y el co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uerte expresividad de los rostros y la actitud de las figur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Precursor del expresionism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fermedad, muerte y dolor son motivos frecuentes en su obra (debido a su infancia desgraciada)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1 Título" descr=""/>
          <p:cNvPicPr/>
          <p:nvPr/>
        </p:nvPicPr>
        <p:blipFill>
          <a:blip r:embed="rId1"/>
          <a:stretch/>
        </p:blipFill>
        <p:spPr>
          <a:xfrm>
            <a:off x="450720" y="676440"/>
            <a:ext cx="8321760" cy="957240"/>
          </a:xfrm>
          <a:prstGeom prst="rect">
            <a:avLst/>
          </a:prstGeom>
          <a:ln w="0">
            <a:noFill/>
          </a:ln>
        </p:spPr>
      </p:pic>
      <p:pic>
        <p:nvPicPr>
          <p:cNvPr id="219" name="il_fi" descr="La_noche_estrellada1"/>
          <p:cNvPicPr/>
          <p:nvPr/>
        </p:nvPicPr>
        <p:blipFill>
          <a:blip r:embed="rId2"/>
          <a:stretch/>
        </p:blipFill>
        <p:spPr>
          <a:xfrm>
            <a:off x="1692360" y="1844640"/>
            <a:ext cx="5838840" cy="4676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4617b"/>
                </a:solidFill>
                <a:latin typeface="Calibri"/>
              </a:rPr>
              <a:t>Características del cuadro “The Starry Night”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trata de un paisaje nocturn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Se utilizan colores fuertes (predominio del amarillo y azu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istorsiona las form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as ondulaciones atraviesan el cielo de izquierda a derech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Los astros se encuentran magnificados por una serie de círculos concéntr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ono sombrí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2T15:39:51Z</dcterms:created>
  <dc:creator>María</dc:creator>
  <dc:description/>
  <dc:language>en-US</dc:language>
  <cp:lastModifiedBy>María</cp:lastModifiedBy>
  <dcterms:modified xsi:type="dcterms:W3CDTF">2011-01-24T16:00:10Z</dcterms:modified>
  <cp:revision>39</cp:revision>
  <dc:subject/>
  <dc:title>El Expresionismo</dc:title>
</cp:coreProperties>
</file>